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0F7-FECC-4580-926E-FE84912F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F3E-FE3E-4419-8959-2625918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2B6-784B-4C8F-B2A2-F3DAD5AB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BDC-EBA3-4D00-A355-E3EB334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254-3B87-4F41-A749-33DC9931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D0A-EF09-428F-99B4-E241EEA5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14A-D49D-4E9B-8B93-43CF1A39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242-1BD6-429D-A111-94FE59D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03D-5BE1-438E-9E8E-1D2D14F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753-FA92-44BF-9974-C97B9E5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C70-35C7-43D1-AB90-3E7A204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006-463E-4ED4-B94B-8C5A60F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D46D-AC3E-4615-AE68-9456743D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aptop"/>
          <p:cNvSpPr/>
          <p:nvPr/>
        </p:nvSpPr>
        <p:spPr>
          <a:xfrm>
            <a:off x="2743200" y="228600"/>
            <a:ext cx="5334120" cy="4648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3657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imal Alphabe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54097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imal Alphabet. Discovery Channel School. 2005. unitedstreaming. 24 January 2006 http://www.unitedstreaming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ics in Context: ABC Animals. United Learning. 1997. unitedstreaming. 24 January 2006 http://www.unitedstreaming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48720" y="2057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555480"/>
            <a:ext cx="34290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9112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Jj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Kk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562720" y="533520"/>
            <a:ext cx="30477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Nn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Qq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S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U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Vv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Y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3584520"/>
            <a:ext cx="4800600" cy="3273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19112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endshow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Bb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Cc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D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Ff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Gg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Hh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402000"/>
            <a:ext cx="5181480" cy="353232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20:17:22Z</dcterms:created>
  <dc:creator>mweeks</dc:creator>
  <dc:description/>
  <dc:language>en-US</dc:language>
  <cp:lastModifiedBy>Eric Gaumer</cp:lastModifiedBy>
  <dcterms:modified xsi:type="dcterms:W3CDTF">2007-10-25T00:13:40Z</dcterms:modified>
  <cp:revision>14</cp:revision>
  <dc:subject/>
  <dc:title>Alphabet</dc:title>
</cp:coreProperties>
</file>